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E92-8136-4442-BBB2-54A524E5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4C9-2982-4D2F-AE42-DC6379CB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3E9-22AC-4C2D-AA3A-A638D8F5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474-2C25-4789-82DC-B903CC20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B7F-30D6-43E7-A915-5AF0404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E97-CF4D-47A0-87D9-5378766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FF2-31F6-404A-A7AC-9AEAD20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8B5-77E1-4114-A738-2BA0754F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C4A-F8BE-4C18-8EC3-6FA6CF3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DCD-C55D-45B1-B5DE-28D3295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FFB-01CF-497E-853C-6826E176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40D-D21B-465E-A0F9-0DFE93A3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8E4A-D612-4316-B782-70B9CE6DA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3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8120" y="3049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The Nine Crusad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10:19Z</dcterms:created>
  <dc:creator>Wingar95P</dc:creator>
  <dc:description/>
  <dc:language>en-US</dc:language>
  <cp:lastModifiedBy>Wingar95P</cp:lastModifiedBy>
  <dcterms:modified xsi:type="dcterms:W3CDTF">2010-02-09T16:24:59Z</dcterms:modified>
  <cp:revision>8</cp:revision>
  <dc:subject/>
  <dc:title>Slide 1</dc:title>
</cp:coreProperties>
</file>